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931-1059-42BF-9B80-1F163008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F895-3654-4AA8-B3B9-D1B9247B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BC3-8D3D-45BB-A8DC-7353F247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B10-8B37-4D54-A1D8-1A58D161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C44-A752-40C6-BB14-BD37C7FF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99B-21FE-4315-972B-AC894AF6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A6C-F74C-49E7-8156-D09A0B35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283-12D9-4242-8099-AC97E3EE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6D4-C3F9-4475-A799-ECF973EB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47D-31A2-4441-B7F1-4E1534FD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B30-9BD5-42C8-A32A-756BF5F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D15-5BF8-4616-98D1-CC4D643E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733A-8A4F-402B-8471-A770660EA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MPj04373210000[1]"/>
          <p:cNvPicPr/>
          <p:nvPr/>
        </p:nvPicPr>
        <p:blipFill>
          <a:blip r:embed="rId1"/>
          <a:stretch/>
        </p:blipFill>
        <p:spPr>
          <a:xfrm>
            <a:off x="1457280" y="228600"/>
            <a:ext cx="6229440" cy="6400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MPj04373210000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752480" y="2209680"/>
            <a:ext cx="5639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lay Plan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10"/>
          <p:cNvSpPr txBox="1"/>
          <p:nvPr/>
        </p:nvSpPr>
        <p:spPr>
          <a:xfrm rot="2604000">
            <a:off x="6934320" y="838080"/>
            <a:ext cx="19810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$2 e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5" name="WordArt 11"/>
          <p:cNvSpPr txBox="1"/>
          <p:nvPr/>
        </p:nvSpPr>
        <p:spPr>
          <a:xfrm rot="18888600">
            <a:off x="323640" y="819360"/>
            <a:ext cx="19814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$2 ea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6" name="WordArt 12"/>
          <p:cNvSpPr txBox="1"/>
          <p:nvPr/>
        </p:nvSpPr>
        <p:spPr>
          <a:xfrm>
            <a:off x="380880" y="5181480"/>
            <a:ext cx="8382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Y STICK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ROW them, ROLL them &amp; CATCH them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13" descr="MPj04424260000[1]"/>
          <p:cNvPicPr/>
          <p:nvPr/>
        </p:nvPicPr>
        <p:blipFill>
          <a:blip r:embed="rId5"/>
          <a:stretch/>
        </p:blipFill>
        <p:spPr>
          <a:xfrm>
            <a:off x="4191120" y="3581280"/>
            <a:ext cx="973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57:47Z</dcterms:created>
  <dc:creator>SAISD</dc:creator>
  <dc:description/>
  <dc:language>en-US</dc:language>
  <cp:lastModifiedBy>SAISD</cp:lastModifiedBy>
  <dcterms:modified xsi:type="dcterms:W3CDTF">2010-04-15T21:53:04Z</dcterms:modified>
  <cp:revision>5</cp:revision>
  <dc:subject/>
  <dc:title>Slide 1</dc:title>
</cp:coreProperties>
</file>